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3.gif" ContentType="image/gif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37.jpeg" ContentType="image/jpeg"/>
  <Override PartName="/ppt/media/image12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291-90A7-4F99-ABAF-963ADBA9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BD0-B485-4CC5-8C59-57E986BC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C7D37-8BF3-4BB2-919F-4524FF7F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E407E-C3F8-4336-8D24-69675C1E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3B88D-46D6-4E33-996A-1A26555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256FA-E02D-4B06-B140-70129A92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BD6C5-0AA9-429F-81F6-01038755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D6AC5-17ED-433D-9A40-B756853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FBDCF-EB8D-4E74-BEBE-1AC8DAEC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672FB-E0ED-41DA-90A7-76D641AB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D257F-5CD0-4C49-B55A-2B56AE7B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AC5-4846-4A55-A0CF-F37364DB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5E5-EE59-4C89-A424-F277DBCB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D8E4-7CF3-461C-AB05-784F7D17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1D57-0F96-48E4-8ABB-0CB17606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D4F9-8BCD-4CE8-9184-D9851431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DA12-53AE-44DA-A944-2E18B6CB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6C3D-EB2C-4407-A745-DBBE55FC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20B4-2C31-4EAF-AAE3-5FE261D6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7FB9-52B4-463C-ADE0-CDED182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E43-0EA4-4D2D-B9BF-FEED380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388A-22EF-4A28-A12D-7D78CCE1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2032-152C-4AEB-BF10-D7BE9582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B09C-A771-4559-B4D6-CF83795D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72F4-1D70-4A34-A9AD-ABD7B036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E9CA-90E2-45A0-8238-ABE9AEE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F95A-DF4E-42BB-941D-699EB943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446DB-64BD-4BE5-B5A6-3438966B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5457-2929-460A-9481-A2F1F7F1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E31C-B52F-47EC-A8AE-A72DD63F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83DA9-15ED-4722-8692-45E9FFF8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49E-280F-4218-AE7A-D6E10EED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6D52-0AE8-4BEF-9B87-C6DF76C3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B66F-FAEE-4063-9536-EEFB3CF5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B175F-6C3D-4085-90AF-C9EBB036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9C6B-BA0F-4A2C-815B-F13217A4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9DFB-C8FD-4C69-9833-E34BFC6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6601-5CF3-4A1E-B819-5028BF81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7404-E309-4693-9FE5-950D402F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37B0B-A9EA-4940-9C0D-6575D893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9ABCF-7576-4690-970D-4B3B576F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F8FC1-FE4C-4807-B541-79E9C0FD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49B-9730-4591-8E0B-16BDC55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74639-193F-4DBF-A782-47E5102D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87C91-048A-4CC1-AA71-A867324A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225D-2703-47A6-8EF6-7879EFCD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50D8-75E6-4389-A3B5-8698A74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25FF1-BD57-4ECE-8BC7-B17B5AC9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5E349-6D7A-4461-9E43-B1CB35C2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A4CA8-F0BF-405B-96B2-6967B90C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A9DBC-1A86-4F32-BB3A-10309E02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52A8-FCD8-4BB3-AC77-37987719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99392-E71E-4500-A6B8-04329C20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153-848A-4B58-8CE8-D2289368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78B0A-D8D1-401C-84F2-9DA2C986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04B7-B1EE-469C-9A3D-18EDEA00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C5BEA-7929-48B6-9CF5-A6C8F4F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6A93F-3F88-41DE-8866-419D2759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E63A-44D0-40F3-9E06-FCD401BC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2B2B-658E-48FD-BF5D-A58EAFBA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3885B-C0BD-46FF-9566-78A3CC7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09C2-4359-4897-8C62-EB05C039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00999-5731-4675-9B0E-91CC711E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71A5C-BF6D-46F7-B43C-4C230223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4E4-4EA4-44A1-A02B-AE67AFA8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C2B1-809F-4FE0-922A-53999A1E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741B8-716C-4DE0-BC5A-936775DA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2345-4197-4D79-905D-DDCCA9D3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7D16-5061-4C56-A708-E032950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19C9E-A887-4A77-8FFA-8E07EF99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357BD-D067-4267-95FA-B8DE029F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CCE33-851E-4498-8C18-A79751A9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E228-F591-4024-9A5A-53A668F6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6C17E-8F70-4E17-8328-B081A703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1EB62-EEEA-420E-A3EE-C895C7DF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2EC-D870-4610-8794-7E3D42C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4B232-7B87-41D2-937F-EEC4AEB8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B993F-0161-4CF2-9C0E-2BF75FE0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F5E8-9204-47BD-8DC5-8A57D0E4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D7707-E3FE-4DF4-9079-50E3B4B7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FCAC1-421F-40FC-BE0F-9EC17803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E9CF9-DA22-4397-A7B8-1DCF20D6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90521-4F80-47C2-8519-743DCAB1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396C-FF39-435A-B5A1-66DA07A4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AB4E2-50E8-4A6C-B689-B5F27657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B3002-0877-448F-9843-E600963D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802-0DF8-4FDD-8847-79049886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25C15-66C1-46A9-AE4C-A4190B98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694B1-1C83-4609-8EF9-B0B9CD9C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F3865-763D-4A1A-82CC-AD14B00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955AF-FE48-445D-8ECD-0BDF482C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56FAB-D018-4F09-AA40-ECFF5DFD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5F462-C5F3-4018-8CD1-1F71956C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47360-5778-4048-8F36-32091C79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C29E8-2FB2-4EF4-834C-FDEB24FA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EEB75-BD30-414B-9075-54BACE02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11A5B-AB92-4D31-BC23-C293C1A6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86B-2F6C-477B-BEB1-9D4F6D3B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F3217-72DF-43F3-A3C7-AE045AE8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B3FD3-F8C0-4A4E-AED0-0BB6985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3582F-A345-4BA9-9E0A-1B25200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6468A-691C-4B90-AE90-F8099A97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E9822-0524-4802-BD81-56D1D126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18920-009B-43A1-A69D-3EFD01AB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395F9-6FEE-4266-BCBB-89A7835E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FE080-C9E6-4DD8-AC13-4C496367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A99E9-1938-46FB-AE06-64E3D8F6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02CC0-6A77-42F3-9BD0-9A0D9E95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E133-37FB-4979-9327-F46D478E9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2714-C87F-44EF-A4BC-682945CB1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2A4E-BB42-442A-91E1-16DBC337436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E5A3-8EFF-471F-B067-31D399834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C6AE-18E2-4AA9-992A-ECF4603C3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C940-FE09-4EA4-BF4C-D986D3B19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c4eb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37EA-3DB0-4533-93D3-68979EFFF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AA6F-F8F9-4A32-B53A-C79F134E9EAF}" type="slidenum">
              <a:rPr b="0" lang="en-US" sz="1400" spc="-1" strike="noStrike">
                <a:solidFill>
                  <a:srgbClr val="46363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80D6-7FD4-47DB-B07B-4B27C6FE00D2}" type="slidenum">
              <a:rPr b="0" lang="en-US" sz="1400" spc="-1" strike="noStrike">
                <a:solidFill>
                  <a:srgbClr val="46363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rmartinlutherkingjr.com/index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hyperlink" Target="http://www.drmartinlutherkingjr.com/ihaveadream.htm" TargetMode="External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hyperlink" Target="http://www.americanrhetoric.com/speeches/mlkihaveadream2.htm" TargetMode="External"/><Relationship Id="rId5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2"/>
          <p:cNvSpPr/>
          <p:nvPr/>
        </p:nvSpPr>
        <p:spPr>
          <a:xfrm>
            <a:off x="0" y="1371600"/>
            <a:ext cx="4419720" cy="368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-17 &amp; 18-12 Use p. 170-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 What do you call the basic freedoms and rights, such as freedom of speech, that all people should enjo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1989 university students gathered in Beijing’s Tiananmen Square to call the government to 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2057400" y="2819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uman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15238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moc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7" descr="DSC00908"/>
          <p:cNvPicPr/>
          <p:nvPr/>
        </p:nvPicPr>
        <p:blipFill>
          <a:blip r:embed="rId1"/>
          <a:stretch/>
        </p:blipFill>
        <p:spPr>
          <a:xfrm>
            <a:off x="4546440" y="76320"/>
            <a:ext cx="4297680" cy="3200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0" descr="006-Tiananmen_Square_2"/>
          <p:cNvPicPr/>
          <p:nvPr/>
        </p:nvPicPr>
        <p:blipFill>
          <a:blip r:embed="rId2"/>
          <a:stretch/>
        </p:blipFill>
        <p:spPr>
          <a:xfrm>
            <a:off x="4267080" y="3605040"/>
            <a:ext cx="4876920" cy="3252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4" descr="china"/>
          <p:cNvPicPr/>
          <p:nvPr/>
        </p:nvPicPr>
        <p:blipFill>
          <a:blip r:embed="rId3"/>
          <a:stretch/>
        </p:blipFill>
        <p:spPr>
          <a:xfrm>
            <a:off x="1066680" y="4952880"/>
            <a:ext cx="1724040" cy="152424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7"/>
          <p:cNvSpPr/>
          <p:nvPr/>
        </p:nvSpPr>
        <p:spPr>
          <a:xfrm>
            <a:off x="0" y="0"/>
            <a:ext cx="4419720" cy="1279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da 1-17 &amp; 1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 6 CHINA TEST next block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have a Dream” poster-nex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arrested"/>
          <p:cNvPicPr/>
          <p:nvPr/>
        </p:nvPicPr>
        <p:blipFill>
          <a:blip r:embed="rId1"/>
          <a:stretch/>
        </p:blipFill>
        <p:spPr>
          <a:xfrm>
            <a:off x="228600" y="457200"/>
            <a:ext cx="5943600" cy="59673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4"/>
          <p:cNvSpPr/>
          <p:nvPr/>
        </p:nvSpPr>
        <p:spPr>
          <a:xfrm>
            <a:off x="6781680" y="1295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6705720" y="914400"/>
            <a:ext cx="2057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e of many arrests for his fight for civil righ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incoln from air"/>
          <p:cNvPicPr/>
          <p:nvPr/>
        </p:nvPicPr>
        <p:blipFill>
          <a:blip r:embed="rId1"/>
          <a:stretch/>
        </p:blipFill>
        <p:spPr>
          <a:xfrm>
            <a:off x="3809880" y="457200"/>
            <a:ext cx="4964400" cy="64008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048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ugust 28, 1963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March on Washington</a:t>
            </a:r>
            <a:br>
              <a:rPr sz="4400"/>
            </a:br>
            <a:br>
              <a:rPr sz="4400"/>
            </a:b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“I Have a Dream”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mlk11"/>
          <p:cNvPicPr/>
          <p:nvPr/>
        </p:nvPicPr>
        <p:blipFill>
          <a:blip r:embed="rId1"/>
          <a:stretch/>
        </p:blipFill>
        <p:spPr>
          <a:xfrm>
            <a:off x="4978440" y="228600"/>
            <a:ext cx="4165560" cy="62485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A Friend to all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mlk3"/>
          <p:cNvPicPr/>
          <p:nvPr/>
        </p:nvPicPr>
        <p:blipFill>
          <a:blip r:embed="rId1"/>
          <a:stretch/>
        </p:blipFill>
        <p:spPr>
          <a:xfrm>
            <a:off x="0" y="304920"/>
            <a:ext cx="4651200" cy="63244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876920" y="-360"/>
            <a:ext cx="358128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1964: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 Nobel Peace Prize</a:t>
            </a:r>
            <a:br>
              <a:rPr sz="6000"/>
            </a:b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Winner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mlk3walking"/>
          <p:cNvPicPr/>
          <p:nvPr/>
        </p:nvPicPr>
        <p:blipFill>
          <a:blip r:embed="rId1"/>
          <a:stretch/>
        </p:blipFill>
        <p:spPr>
          <a:xfrm>
            <a:off x="1676520" y="68580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oretta marching by his side……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mlk4"/>
          <p:cNvPicPr/>
          <p:nvPr/>
        </p:nvPicPr>
        <p:blipFill>
          <a:blip r:embed="rId1"/>
          <a:stretch/>
        </p:blipFill>
        <p:spPr>
          <a:xfrm>
            <a:off x="0" y="380880"/>
            <a:ext cx="5570640" cy="62485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486040" y="0"/>
            <a:ext cx="335268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Letter from Birmingham Jail”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Makes an impact.</a:t>
            </a:r>
            <a:br>
              <a:rPr sz="4800"/>
            </a:b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osa"/>
          <p:cNvPicPr/>
          <p:nvPr/>
        </p:nvPicPr>
        <p:blipFill>
          <a:blip r:embed="rId1"/>
          <a:stretch/>
        </p:blipFill>
        <p:spPr>
          <a:xfrm>
            <a:off x="304920" y="457200"/>
            <a:ext cx="4981320" cy="6172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486400" y="609120"/>
            <a:ext cx="3657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ROSA PARKS,</a:t>
            </a:r>
            <a:br>
              <a:rPr sz="6600"/>
            </a:b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a woman of courage.</a:t>
            </a:r>
            <a:endParaRPr b="0" i="1" lang="en-US" sz="66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selma"/>
          <p:cNvPicPr/>
          <p:nvPr/>
        </p:nvPicPr>
        <p:blipFill>
          <a:blip r:embed="rId1"/>
          <a:stretch/>
        </p:blipFill>
        <p:spPr>
          <a:xfrm>
            <a:off x="3402000" y="533520"/>
            <a:ext cx="5742000" cy="58928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33526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Freedom March…</a:t>
            </a:r>
            <a:br>
              <a:rPr sz="5400"/>
            </a:br>
            <a:br>
              <a:rPr sz="5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elma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to Montgomery, Alabama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selma2"/>
          <p:cNvPicPr/>
          <p:nvPr/>
        </p:nvPicPr>
        <p:blipFill>
          <a:blip r:embed="rId1"/>
          <a:stretch/>
        </p:blipFill>
        <p:spPr>
          <a:xfrm>
            <a:off x="990720" y="434880"/>
            <a:ext cx="6591240" cy="6015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memphis"/>
          <p:cNvPicPr/>
          <p:nvPr/>
        </p:nvPicPr>
        <p:blipFill>
          <a:blip r:embed="rId1"/>
          <a:stretch/>
        </p:blipFill>
        <p:spPr>
          <a:xfrm>
            <a:off x="0" y="304920"/>
            <a:ext cx="5508720" cy="6172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86040" y="609120"/>
            <a:ext cx="29718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Dr. King is fatally shot in Memphis, Tennessee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ab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BJ802TiananmenSq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family"/>
          <p:cNvPicPr/>
          <p:nvPr/>
        </p:nvPicPr>
        <p:blipFill>
          <a:blip r:embed="rId1"/>
          <a:stretch/>
        </p:blipFill>
        <p:spPr>
          <a:xfrm>
            <a:off x="4191120" y="380880"/>
            <a:ext cx="4279680" cy="60962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Coretta and children …….Mourn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lastmarch"/>
          <p:cNvPicPr/>
          <p:nvPr/>
        </p:nvPicPr>
        <p:blipFill>
          <a:blip r:embed="rId1"/>
          <a:stretch/>
        </p:blipFill>
        <p:spPr>
          <a:xfrm>
            <a:off x="0" y="609480"/>
            <a:ext cx="4334040" cy="62485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95320" y="60912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pril 19, 1968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Dr. King’s funeral is an international event.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v041968"/>
          <p:cNvPicPr/>
          <p:nvPr/>
        </p:nvPicPr>
        <p:blipFill>
          <a:blip r:embed="rId1"/>
          <a:stretch/>
        </p:blipFill>
        <p:spPr>
          <a:xfrm>
            <a:off x="2209680" y="228600"/>
            <a:ext cx="468648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mlkdayt"/>
          <p:cNvPicPr/>
          <p:nvPr/>
        </p:nvPicPr>
        <p:blipFill>
          <a:blip r:embed="rId1"/>
          <a:stretch/>
        </p:blipFill>
        <p:spPr>
          <a:xfrm>
            <a:off x="2971800" y="457200"/>
            <a:ext cx="6172200" cy="60357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27432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November 2, 1986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resident Reagan declares a national holiday in King’s honor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arrested"/>
          <p:cNvPicPr/>
          <p:nvPr/>
        </p:nvPicPr>
        <p:blipFill>
          <a:blip r:embed="rId1"/>
          <a:stretch/>
        </p:blipFill>
        <p:spPr>
          <a:xfrm>
            <a:off x="3124080" y="457200"/>
            <a:ext cx="4969080" cy="594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Equal rights for all…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attack"/>
          <p:cNvPicPr/>
          <p:nvPr/>
        </p:nvPicPr>
        <p:blipFill>
          <a:blip r:embed="rId1"/>
          <a:stretch/>
        </p:blipFill>
        <p:spPr>
          <a:xfrm>
            <a:off x="457200" y="533520"/>
            <a:ext cx="4802040" cy="601956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29200" y="25905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Tolerance…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3" descr="bullet hole"/>
          <p:cNvPicPr/>
          <p:nvPr/>
        </p:nvPicPr>
        <p:blipFill>
          <a:blip r:embed="rId1"/>
          <a:stretch/>
        </p:blipFill>
        <p:spPr>
          <a:xfrm>
            <a:off x="2819520" y="304920"/>
            <a:ext cx="6324480" cy="62784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Non-violence…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calaspe"/>
          <p:cNvPicPr/>
          <p:nvPr/>
        </p:nvPicPr>
        <p:blipFill>
          <a:blip r:embed="rId1"/>
          <a:stretch/>
        </p:blipFill>
        <p:spPr>
          <a:xfrm>
            <a:off x="0" y="457200"/>
            <a:ext cx="5200560" cy="59436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257800" y="609480"/>
            <a:ext cx="32004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Faith….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car shots"/>
          <p:cNvPicPr/>
          <p:nvPr/>
        </p:nvPicPr>
        <p:blipFill>
          <a:blip r:embed="rId1"/>
          <a:stretch/>
        </p:blipFill>
        <p:spPr>
          <a:xfrm>
            <a:off x="2971800" y="838080"/>
            <a:ext cx="6172200" cy="54882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2514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ny die for the cause of Civil Rights.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cross"/>
          <p:cNvPicPr/>
          <p:nvPr/>
        </p:nvPicPr>
        <p:blipFill>
          <a:blip r:embed="rId1"/>
          <a:stretch/>
        </p:blipFill>
        <p:spPr>
          <a:xfrm>
            <a:off x="0" y="457200"/>
            <a:ext cx="4946760" cy="60958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28840" y="6094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Peace….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Tiananmen_Square_protests"/>
          <p:cNvPicPr/>
          <p:nvPr/>
        </p:nvPicPr>
        <p:blipFill>
          <a:blip r:embed="rId1"/>
          <a:stretch/>
        </p:blipFill>
        <p:spPr>
          <a:xfrm>
            <a:off x="0" y="380880"/>
            <a:ext cx="3581280" cy="4876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protest"/>
          <p:cNvPicPr/>
          <p:nvPr/>
        </p:nvPicPr>
        <p:blipFill>
          <a:blip r:embed="rId2"/>
          <a:stretch/>
        </p:blipFill>
        <p:spPr>
          <a:xfrm>
            <a:off x="5105520" y="380880"/>
            <a:ext cx="4038480" cy="3581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tank"/>
          <p:cNvPicPr/>
          <p:nvPr/>
        </p:nvPicPr>
        <p:blipFill>
          <a:blip r:embed="rId3"/>
          <a:stretch/>
        </p:blipFill>
        <p:spPr>
          <a:xfrm>
            <a:off x="3581280" y="3581280"/>
            <a:ext cx="5562720" cy="3276720"/>
          </a:xfrm>
          <a:prstGeom prst="rect">
            <a:avLst/>
          </a:prstGeom>
          <a:ln w="0">
            <a:noFill/>
          </a:ln>
        </p:spPr>
      </p:pic>
      <p:sp>
        <p:nvSpPr>
          <p:cNvPr id="380" name="WordArt 10"/>
          <p:cNvSpPr txBox="1"/>
          <p:nvPr/>
        </p:nvSpPr>
        <p:spPr>
          <a:xfrm rot="20962800">
            <a:off x="2666880" y="1294920"/>
            <a:ext cx="3514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636000"/>
                </a:gradFill>
                <a:latin typeface="Impact"/>
              </a:rPr>
              <a:t>Tiananmen Squ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636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dog"/>
          <p:cNvPicPr/>
          <p:nvPr/>
        </p:nvPicPr>
        <p:blipFill>
          <a:blip r:embed="rId1"/>
          <a:stretch/>
        </p:blipFill>
        <p:spPr>
          <a:xfrm>
            <a:off x="4361040" y="380880"/>
            <a:ext cx="4782960" cy="61722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28954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Equality for all….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eating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403848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llow us to eat at your table….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family"/>
          <p:cNvPicPr/>
          <p:nvPr/>
        </p:nvPicPr>
        <p:blipFill>
          <a:blip r:embed="rId1"/>
          <a:stretch/>
        </p:blipFill>
        <p:spPr>
          <a:xfrm>
            <a:off x="4362480" y="457200"/>
            <a:ext cx="4781520" cy="6095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The King family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fear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497988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Persistence will prevail….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funeral2"/>
          <p:cNvPicPr/>
          <p:nvPr/>
        </p:nvPicPr>
        <p:blipFill>
          <a:blip r:embed="rId1"/>
          <a:stretch/>
        </p:blipFill>
        <p:spPr>
          <a:xfrm>
            <a:off x="914400" y="0"/>
            <a:ext cx="7391520" cy="49878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housands march in Detroit…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funerala"/>
          <p:cNvPicPr/>
          <p:nvPr/>
        </p:nvPicPr>
        <p:blipFill>
          <a:blip r:embed="rId1"/>
          <a:stretch/>
        </p:blipFill>
        <p:spPr>
          <a:xfrm>
            <a:off x="4232160" y="304920"/>
            <a:ext cx="4911840" cy="624816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imes New Roman"/>
              </a:rPr>
              <a:t>Dr. King’s final freedom march…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grave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58611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6000" spc="-1" strike="noStrike">
                <a:solidFill>
                  <a:srgbClr val="ffff00"/>
                </a:solidFill>
                <a:latin typeface="Times New Roman"/>
              </a:rPr>
              <a:t>Free At Last….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Little Rock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49532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esegregation of Little Rock High School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mem riot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257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OP THE VIOLENCE!!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mlk_index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524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haveadre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64000" cy="31942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4495680" y="1523880"/>
            <a:ext cx="42674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Darkness cannot drive out dark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Only light can do t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Hate cannot drive out h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Only love can do t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Hate multiplies hate, violence multiplies viol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And toughness multiplies toug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In a descending spiral of destructio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lligraphy"/>
              </a:rPr>
              <a:t>---Martin Luther King, J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papers"/>
          <p:cNvPicPr/>
          <p:nvPr/>
        </p:nvPicPr>
        <p:blipFill>
          <a:blip r:embed="rId1"/>
          <a:stretch/>
        </p:blipFill>
        <p:spPr>
          <a:xfrm>
            <a:off x="1143000" y="2209680"/>
            <a:ext cx="7010280" cy="43563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Shall Overcome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Shall Overcome,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selma"/>
          <p:cNvPicPr/>
          <p:nvPr/>
        </p:nvPicPr>
        <p:blipFill>
          <a:blip r:embed="rId1"/>
          <a:stretch/>
        </p:blipFill>
        <p:spPr>
          <a:xfrm>
            <a:off x="838080" y="1905120"/>
            <a:ext cx="7239240" cy="495288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Shall overcome some da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daca9c"/>
              </a:solidFill>
              <a:latin typeface="Tiffany Lt BT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preaching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4864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’ll walk hand in hand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ign bus"/>
          <p:cNvPicPr/>
          <p:nvPr/>
        </p:nvPicPr>
        <p:blipFill>
          <a:blip r:embed="rId1"/>
          <a:stretch/>
        </p:blipFill>
        <p:spPr>
          <a:xfrm>
            <a:off x="914400" y="1523880"/>
            <a:ext cx="7086600" cy="49579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are not afraid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two cops king"/>
          <p:cNvPicPr/>
          <p:nvPr/>
        </p:nvPicPr>
        <p:blipFill>
          <a:blip r:embed="rId1"/>
          <a:stretch/>
        </p:blipFill>
        <p:spPr>
          <a:xfrm>
            <a:off x="1981080" y="920880"/>
            <a:ext cx="4962600" cy="5937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We SHALL OVERCOME!!!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"/>
              </a:rPr>
              <a:t>Blessed be the Peacema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dalai lama"/>
          <p:cNvPicPr/>
          <p:nvPr/>
        </p:nvPicPr>
        <p:blipFill>
          <a:blip r:embed="rId1"/>
          <a:stretch/>
        </p:blipFill>
        <p:spPr>
          <a:xfrm>
            <a:off x="1371600" y="18288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Gandhi"/>
          <p:cNvPicPr/>
          <p:nvPr/>
        </p:nvPicPr>
        <p:blipFill>
          <a:blip r:embed="rId2"/>
          <a:stretch/>
        </p:blipFill>
        <p:spPr>
          <a:xfrm>
            <a:off x="6172200" y="1828800"/>
            <a:ext cx="1600200" cy="25146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ki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1905120"/>
            <a:ext cx="1828800" cy="30477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Abraham Lincoln"/>
          <p:cNvPicPr/>
          <p:nvPr/>
        </p:nvPicPr>
        <p:blipFill>
          <a:blip r:embed="rId5"/>
          <a:stretch/>
        </p:blipFill>
        <p:spPr>
          <a:xfrm>
            <a:off x="762120" y="411480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Mother Theresa"/>
          <p:cNvPicPr/>
          <p:nvPr/>
        </p:nvPicPr>
        <p:blipFill>
          <a:blip r:embed="rId6"/>
          <a:stretch/>
        </p:blipFill>
        <p:spPr>
          <a:xfrm>
            <a:off x="7543800" y="5334120"/>
            <a:ext cx="182880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fig5"/>
          <p:cNvPicPr/>
          <p:nvPr/>
        </p:nvPicPr>
        <p:blipFill>
          <a:blip r:embed="rId1"/>
          <a:stretch/>
        </p:blipFill>
        <p:spPr>
          <a:xfrm>
            <a:off x="2438280" y="0"/>
            <a:ext cx="4286520" cy="32479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phpl9etrx_86_quest"/>
          <p:cNvPicPr/>
          <p:nvPr/>
        </p:nvPicPr>
        <p:blipFill>
          <a:blip r:embed="rId2"/>
          <a:stretch/>
        </p:blipFill>
        <p:spPr>
          <a:xfrm>
            <a:off x="6019920" y="2286000"/>
            <a:ext cx="3124080" cy="4572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photo_king_05"/>
          <p:cNvPicPr/>
          <p:nvPr/>
        </p:nvPicPr>
        <p:blipFill>
          <a:blip r:embed="rId3"/>
          <a:stretch/>
        </p:blipFill>
        <p:spPr>
          <a:xfrm>
            <a:off x="0" y="2286000"/>
            <a:ext cx="3314880" cy="4572000"/>
          </a:xfrm>
          <a:prstGeom prst="rect">
            <a:avLst/>
          </a:prstGeom>
          <a:ln w="0">
            <a:noFill/>
          </a:ln>
        </p:spPr>
      </p:pic>
      <p:sp>
        <p:nvSpPr>
          <p:cNvPr id="471" name="Action Button: Information 6">
            <a:hlinkClick r:id="rId4"/>
          </p:cNvPr>
          <p:cNvSpPr/>
          <p:nvPr/>
        </p:nvSpPr>
        <p:spPr>
          <a:xfrm>
            <a:off x="4267080" y="5029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roadway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Have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Broadway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Broadway"/>
              </a:rPr>
              <a:t>Dream</a:t>
            </a: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—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 Have A Dr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at the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Hai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line—5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ine—7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ine—5 syll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 and color 5 illus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at least 2 phrases from MLK’s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4724280" y="2209680"/>
            <a:ext cx="4419720" cy="1891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 for all m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ck and white all toge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ream will not d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Straight Arrow Connector 7"/>
          <p:cNvCxnSpPr/>
          <p:nvPr/>
        </p:nvCxnSpPr>
        <p:spPr>
          <a:xfrm>
            <a:off x="2971440" y="2286000"/>
            <a:ext cx="1600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6" name="TextBox 8"/>
          <p:cNvSpPr/>
          <p:nvPr/>
        </p:nvSpPr>
        <p:spPr>
          <a:xfrm>
            <a:off x="-685800" y="762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9"/>
          <p:cNvSpPr/>
          <p:nvPr/>
        </p:nvSpPr>
        <p:spPr>
          <a:xfrm>
            <a:off x="228600" y="3809880"/>
            <a:ext cx="3581280" cy="91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 Ideas for Ha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imination, freedom, MLK, equality, working togeth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4"/>
          <p:cNvSpPr/>
          <p:nvPr/>
        </p:nvSpPr>
        <p:spPr>
          <a:xfrm>
            <a:off x="228600" y="0"/>
            <a:ext cx="8610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o do the rest of the peri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nd at least 20 or (until your make a 100) minutes playing Zondle review games for China Test this FRIDAY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r and complete “I have a Dream” poster.  If finished, turn into HR tray. This poster is due by next Fri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your Chinese Blessing you painted and attach your colored dragon pictu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f you want 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I will be grading them TO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you are finished with all of the above, you need to get a book from the back blackboard and read throug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http://www.crystalinks.com/chinawallarge.gif"/>
          <p:cNvPicPr/>
          <p:nvPr/>
        </p:nvPicPr>
        <p:blipFill>
          <a:blip r:embed="rId1"/>
          <a:stretch/>
        </p:blipFill>
        <p:spPr>
          <a:xfrm>
            <a:off x="2362320" y="4038480"/>
            <a:ext cx="42256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I believe unarmed truth and unconditional love will have the last word……”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85" name="Picture 5" descr="img0"/>
          <p:cNvPicPr/>
          <p:nvPr/>
        </p:nvPicPr>
        <p:blipFill>
          <a:blip r:embed="rId1"/>
          <a:stretch/>
        </p:blipFill>
        <p:spPr>
          <a:xfrm>
            <a:off x="1371600" y="2590920"/>
            <a:ext cx="644688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montage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867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956: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istrict court rules bus segregation is unconstitutional.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388" name="Picture 4" descr="assault"/>
          <p:cNvPicPr/>
          <p:nvPr/>
        </p:nvPicPr>
        <p:blipFill>
          <a:blip r:embed="rId1"/>
          <a:stretch/>
        </p:blipFill>
        <p:spPr>
          <a:xfrm>
            <a:off x="43434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v032665"/>
          <p:cNvPicPr/>
          <p:nvPr/>
        </p:nvPicPr>
        <p:blipFill>
          <a:blip r:embed="rId1"/>
          <a:stretch/>
        </p:blipFill>
        <p:spPr>
          <a:xfrm>
            <a:off x="0" y="304920"/>
            <a:ext cx="4915080" cy="655308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52880" y="76212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957: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Civil Rights Commission is created by the federal government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mlk3"/>
          <p:cNvPicPr/>
          <p:nvPr/>
        </p:nvPicPr>
        <p:blipFill>
          <a:blip r:embed="rId1"/>
          <a:stretch/>
        </p:blipFill>
        <p:spPr>
          <a:xfrm>
            <a:off x="0" y="228600"/>
            <a:ext cx="5289480" cy="63244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486040" y="533520"/>
            <a:ext cx="304812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r. King was arrested numerous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times during Civil Rights Movement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28:12Z</dcterms:created>
  <dc:creator>Selena Ramsey</dc:creator>
  <dc:description/>
  <dc:language>en-US</dc:language>
  <cp:lastModifiedBy>poweruser</cp:lastModifiedBy>
  <dcterms:modified xsi:type="dcterms:W3CDTF">2012-01-23T15:55:45Z</dcterms:modified>
  <cp:revision>41</cp:revision>
  <dc:subject/>
  <dc:title>Agenda Jan. 6, 2006</dc:title>
</cp:coreProperties>
</file>